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03200" y="683280"/>
            <a:ext cx="4495680" cy="33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10280" y="4271400"/>
            <a:ext cx="568188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my notes for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">
            <a:hlinkClick r:id="" action="ppaction://hlinkshowjump?jump=endshow"/>
          </p:cNvPr>
          <p:cNvSpPr/>
          <p:nvPr/>
        </p:nvSpPr>
        <p:spPr>
          <a:xfrm>
            <a:off x="843120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" action="ppaction://hlinkshowjump?jump=lastslide"/>
          </p:cNvPr>
          <p:cNvSpPr/>
          <p:nvPr/>
        </p:nvSpPr>
        <p:spPr>
          <a:xfrm>
            <a:off x="7896240" y="0"/>
            <a:ext cx="460440" cy="576360"/>
          </a:xfrm>
          <a:custGeom>
            <a:avLst/>
            <a:gdLst>
              <a:gd name="textAreaLeft" fmla="*/ 29520 w 460440"/>
              <a:gd name="textAreaRight" fmla="*/ 430920 w 460440"/>
              <a:gd name="textAreaTop" fmla="*/ 29520 h 576360"/>
              <a:gd name="textAreaBottom" fmla="*/ 546840 h 576360"/>
            </a:gdLst>
            <a:ahLst/>
            <a:rect l="textAreaLeft" t="textAreaTop" r="textAreaRight" b="textAreaBottom"/>
            <a:pathLst>
              <a:path w="21600" h="27034">
                <a:moveTo>
                  <a:pt x="0" y="0"/>
                </a:moveTo>
                <a:lnTo>
                  <a:pt x="21600" y="0"/>
                </a:lnTo>
                <a:lnTo>
                  <a:pt x="21600" y="27034"/>
                </a:lnTo>
                <a:lnTo>
                  <a:pt x="0" y="27034"/>
                </a:lnTo>
                <a:close/>
              </a:path>
              <a:path fill="lightenLess" w="21600" h="270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4">
                <a:moveTo>
                  <a:pt x="21600" y="0"/>
                </a:moveTo>
                <a:lnTo>
                  <a:pt x="21600" y="27034"/>
                </a:lnTo>
                <a:lnTo>
                  <a:pt x="20200" y="25634"/>
                </a:lnTo>
                <a:lnTo>
                  <a:pt x="20200" y="1400"/>
                </a:lnTo>
                <a:close/>
              </a:path>
              <a:path fill="darkenLess" w="21600" h="27034">
                <a:moveTo>
                  <a:pt x="21600" y="27034"/>
                </a:moveTo>
                <a:lnTo>
                  <a:pt x="0" y="27034"/>
                </a:lnTo>
                <a:lnTo>
                  <a:pt x="1400" y="25634"/>
                </a:lnTo>
                <a:lnTo>
                  <a:pt x="20200" y="25634"/>
                </a:lnTo>
                <a:close/>
              </a:path>
              <a:path fill="lighten" w="21600" h="27034">
                <a:moveTo>
                  <a:pt x="0" y="270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7459560" y="111240"/>
            <a:ext cx="362160" cy="36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firstslide"/>
          </p:cNvPr>
          <p:cNvSpPr/>
          <p:nvPr/>
        </p:nvSpPr>
        <p:spPr>
          <a:xfrm>
            <a:off x="304920" y="266760"/>
            <a:ext cx="736560" cy="749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76240" y="912960"/>
            <a:ext cx="439308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European Middle Ages,</a:t>
            </a:r>
            <a:br>
              <a:rPr sz="3000"/>
            </a:b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500–1200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73360" y="1936800"/>
            <a:ext cx="653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harlemagne unites the Germanic kingdoms, the feudal system emerges, and the Church strongly influences the lives of people in Europ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76960" y="1598760"/>
            <a:ext cx="49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Charlemagne Becomes Emper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3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773360" y="2174760"/>
            <a:ext cx="5445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Pepin to Charlemag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pin dies in 768, leaves kingdom to two sons;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71 one son 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ond son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Charlemag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Charles the Great)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les kingd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73360" y="3700440"/>
            <a:ext cx="54194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rlemagne Extends Frankish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rlemagne’s armies reunite western Europ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read Christia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800, Charlemagne travels to Rome to prote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e Leo III from mo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e crowns Charlemagne emperor; gives hi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, “Roman Empero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rmanic power, Church, heritage of Roma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mpire now joined toge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79480" y="1690560"/>
            <a:ext cx="413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Charlemagne Becomes Emper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4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73360" y="2174760"/>
            <a:ext cx="58006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rlemagne Leads a Revi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rlemagne limits nobles’ power by govern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ough royal 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courages learning and orders monasteries to op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73360" y="3670200"/>
            <a:ext cx="57369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rlemagne’s He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rlemagne dies in 814; his son, Louis the Piou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les poor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uis’s three grandsons fight for control of emp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843 they divide empire into three kingdoms; sig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eaty of Verdu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0160" y="349236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udalism, a political and economic system based on land-holding and protective alliances, emerges in Euro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370160" y="2397240"/>
            <a:ext cx="6800400" cy="1032840"/>
            <a:chOff x="1370160" y="2397240"/>
            <a:chExt cx="6800400" cy="1032840"/>
          </a:xfrm>
        </p:grpSpPr>
        <p:sp>
          <p:nvSpPr>
            <p:cNvPr id="151" name=""/>
            <p:cNvSpPr/>
            <p:nvPr/>
          </p:nvSpPr>
          <p:spPr>
            <a:xfrm>
              <a:off x="1370160" y="2397240"/>
              <a:ext cx="431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70160" y="2787480"/>
              <a:ext cx="680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Feudalism in Europe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75160" y="1827360"/>
            <a:ext cx="495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Invaders Attack Western Euro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70880" y="885960"/>
            <a:ext cx="403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Feudalism in Europ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73360" y="2403360"/>
            <a:ext cx="57880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Vikings Invade from the No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rlike Vikings raid Europe from Scandinavia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nmark, Norway, Swe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king long ships sail in shallow water, allowing rai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ntually, many Vikings adopt Christianity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ome far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6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73360" y="4419720"/>
            <a:ext cx="581004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gyars and Muslims Attack from the East and Sou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gyars (Hungarian nomads) invade wester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urope in late 800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lims strike north from Africa, attacking throug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aly and S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iking, Magyar, Muslim invasions cause widespre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sorder, suffe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71920" y="1598760"/>
            <a:ext cx="47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A New Social Order: Feudalis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73360" y="2174760"/>
            <a:ext cx="5445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eudalism Structures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50 to 950, feudalism emerges—political syste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 land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lo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landowner) give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fie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land grants)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change for servic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Vass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people who receive fiefs—beco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ful landhol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7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73360" y="4243320"/>
            <a:ext cx="57369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Feudal Pyra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 in feudal system much like a pyramid, wit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ing at the 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ings served by nobles who are served by knights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asants at bot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Knigh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horsemen—defend their lord’s land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change for fie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74800" y="2174760"/>
            <a:ext cx="546588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cial Classes Are Well 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dieval feudal system classifies people in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social grou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ose who fight: nobles and kn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ose who pray: monks, nuns, leaders of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u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ose who work: peas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cial class is usually inherited; majority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 are peas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peasants are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ser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people lawfully bou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place of bi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rfs aren’t slaves, but what they produ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longs to their lor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82360" y="1690560"/>
            <a:ext cx="401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 New Social Order: Feudalis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8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71200" y="1598760"/>
            <a:ext cx="63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Manors: The Economic Side of Feudalis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73360" y="2174760"/>
            <a:ext cx="5445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ord’s E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lord’s estate, a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man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has an econom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 (manor syst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fs and free peasants maintain the lord’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ate, give g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lord provides housing, farmland, prote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band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9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73360" y="420516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elf-Contained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dieval manors include lord’s house, church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shops, vil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ors cover a few square miles of land, are large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lf-suffici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74800" y="2174760"/>
            <a:ext cx="546588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Harshness of Manor 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asants pay taxes to use mill and bakery; pay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he to pri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Tit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a church tax—is equal to one-tenth of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asant’s in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fs live in crowded cottages with dirt floor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aw for be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ily grind of raising crops, livestock; feeding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thing fam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or diet, illness, malnutrition make lif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ectancy 35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rfs generally accept their lives as part of God’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83800" y="1690560"/>
            <a:ext cx="50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Manors: The Economic Side of Feudalis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20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370160" y="2486160"/>
            <a:ext cx="5708160" cy="1078200"/>
            <a:chOff x="1370160" y="2486160"/>
            <a:chExt cx="5708160" cy="1078200"/>
          </a:xfrm>
        </p:grpSpPr>
        <p:sp>
          <p:nvSpPr>
            <p:cNvPr id="206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70160" y="2784600"/>
              <a:ext cx="57081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The Age of Chivalry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370160" y="3500280"/>
            <a:ext cx="60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de of chivalry for knights glorifies combat and romantic lo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74080" y="182736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Knights: Warriors on Horseba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67280" y="960480"/>
            <a:ext cx="31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Age of Chival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73360" y="2403360"/>
            <a:ext cx="5788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echnology of Warfare 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ather saddle and stirrups enable knights to hand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vy weap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700s, mounted knights become most importa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 of an ar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17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73360" y="3933720"/>
            <a:ext cx="57880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Warrior’s Role in Feudal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1000s, western Europe is a battleground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rring no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udal lords raise private armies of kn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nights rewarded with land; provides income need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weap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nights’ other activities help train them for comb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76240" y="912960"/>
            <a:ext cx="439308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European Middle Ages,</a:t>
            </a:r>
            <a:br>
              <a:rPr sz="3000"/>
            </a:b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500–1200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2046240" y="251136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" action="ppaction://hlinksldjump"/>
          </p:cNvPr>
          <p:cNvSpPr/>
          <p:nvPr/>
        </p:nvSpPr>
        <p:spPr>
          <a:xfrm>
            <a:off x="2046240" y="307332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3" action="ppaction://hlinksldjump"/>
          </p:cNvPr>
          <p:cNvSpPr/>
          <p:nvPr/>
        </p:nvSpPr>
        <p:spPr>
          <a:xfrm>
            <a:off x="2046240" y="3606840"/>
            <a:ext cx="1741680" cy="3808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46240" y="4140360"/>
            <a:ext cx="1741680" cy="3808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3000" y="2502000"/>
            <a:ext cx="49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lemagne Unites Germanic Kingdo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47680" y="3078000"/>
            <a:ext cx="258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eudalism in Euro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46960" y="3591000"/>
            <a:ext cx="24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ge of Chival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45160" y="4129200"/>
            <a:ext cx="30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Power of the Chur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71560" y="1598760"/>
            <a:ext cx="56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Knighthood and the Code of Chival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73360" y="2174760"/>
            <a:ext cx="5445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Code of Chival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1100s knights obey code of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chival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a set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ls on how to 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y are to protect weak and poor; serve feud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rd, God, chosen l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73360" y="368136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Knight’s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ys begin to train for knighthood at age 7; usual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nighted at 2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nights gain experience in local wars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tourna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mock batt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73360" y="5157720"/>
            <a:ext cx="5736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utal Reality of Warf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tles are huge fortresses where lords 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tacking armies use wide range of strategies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ap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3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73000" y="1598760"/>
            <a:ext cx="39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Literature of Chival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73360" y="2174760"/>
            <a:ext cx="5445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pic Po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pic poems recount a hero’s deeds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ven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ong of Ro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about Charlemagne’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nights fighting Musli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73360" y="3710160"/>
            <a:ext cx="57369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ve Poems and So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nights’ duties to ladies are as important as those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ir l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Troubadou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traveling poet-musicians—write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ng short ver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celebrated woman of the age is Eleanor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quitaine (1122–12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eanor’s son, Richard the Lion-Hearted, also wro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ngs and po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4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771200" y="1598760"/>
            <a:ext cx="49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Women’s Role in Feudal Soci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73360" y="2174760"/>
            <a:ext cx="5445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us of W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ording to the Church and feudal societ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men are inferior to m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73360" y="3119400"/>
            <a:ext cx="5736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blew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 inherit land, defend castle, send knights to w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lord’s requ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ually confined to activities of the home or con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73360" y="4376880"/>
            <a:ext cx="5736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asant W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labor in home and field, bear children, provid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fam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or, powerless, do household tasks at young 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5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370880" y="2486160"/>
            <a:ext cx="7104240" cy="1057680"/>
            <a:chOff x="1370880" y="2486160"/>
            <a:chExt cx="7104240" cy="1057680"/>
          </a:xfrm>
        </p:grpSpPr>
        <p:sp>
          <p:nvSpPr>
            <p:cNvPr id="256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70880" y="2867040"/>
              <a:ext cx="7104240" cy="67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The Power of the Church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370160" y="3576600"/>
            <a:ext cx="60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urch leaders and political leaders compete for power and autho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72640" y="1827360"/>
            <a:ext cx="634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Far-Reaching Authority of the Chur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70880" y="885960"/>
            <a:ext cx="4793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The Power of the Church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73360" y="2403360"/>
            <a:ext cx="57880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tructure of the Chu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 within Church is organized by status; pope 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reme auth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Clerg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religious officials—includes bishop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ests, and oth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shops supervise priests, settle Church disp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773360" y="4210200"/>
            <a:ext cx="57117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ligion as a Unifying Fo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igion important in Middle Ages; shared belief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nd peop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rgy administers the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sacra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rites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hieve sal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illage church is place of worship and celeb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67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74800" y="2174760"/>
            <a:ext cx="546588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aw of the Chu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Church has system of justice to guid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’s con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medieval Christians expected to obey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canon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la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Church la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on law governs marriages and religio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act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es have power over political leaders throug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at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communication—banishment fr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urch, denial of sal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diction—king’s subjects deni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craments an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ings and emperors expected to obey pope’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man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784160" y="1690560"/>
            <a:ext cx="504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he Far-Reaching Authority of the Chur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78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73360" y="1598760"/>
            <a:ext cx="61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Church and the Holy Roman Emp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73360" y="2174760"/>
            <a:ext cx="54450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to I Allies with the Chu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to I (Otto the Great) is crowned king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rmany in 9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mits strength of nobles with help of cl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ains support of bishops and abbots (heads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aster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ades Italy on pope’s behalf; pope crowns hi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peror in 9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87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1774800" y="4527720"/>
            <a:ext cx="54658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gns of Future Confli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to’s German-Italian lands become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Holy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Roman Emp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oly Roman Empire is the strongest Europea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wer until about 1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72640" y="159876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Emperor Clashes with the Po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73360" y="2174760"/>
            <a:ext cx="5445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mperor Henry IV and Pope Gregory VI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e Gregory VII ban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lay investi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king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ointing Church offic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nry IV orders pope to resign; Gregory VII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communicates Hen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97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1774800" y="3699000"/>
            <a:ext cx="54658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owdown at Cano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nry goes to Canossa, Italy, to beg Gregory f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given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egory forgives Henry, but lay investitu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 is not sol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74800" y="5232240"/>
            <a:ext cx="54658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cordat of W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ordat of Worms is 1122 compromise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ms, German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romise: pope appoints bishops, emper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n veto appoin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72640" y="1598760"/>
            <a:ext cx="35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Disorder in the Emp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73360" y="2174760"/>
            <a:ext cx="54450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Reign of Frederick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152, Frederick I becomes king; dominat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rman pri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order breaks out whenever he leav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rman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derick invades Italy, meets defeat at Legnan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17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pire collapses after Frederick’s death in 11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08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1773360" y="4522680"/>
            <a:ext cx="54194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rman States Remain Sepa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rman kings after Frederick try to revive emp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rman princes, who elect kings, prefer to kee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m wea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344680" y="2827440"/>
            <a:ext cx="61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his is the end of the chapter presentation of lecture notes. Click the HOME or EXIT butt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81880" y="6010200"/>
            <a:ext cx="495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370880" y="2486160"/>
            <a:ext cx="5929200" cy="1640520"/>
            <a:chOff x="1370880" y="2486160"/>
            <a:chExt cx="5929200" cy="1640520"/>
          </a:xfrm>
        </p:grpSpPr>
        <p:sp>
          <p:nvSpPr>
            <p:cNvPr id="61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70880" y="2867040"/>
              <a:ext cx="5929200" cy="12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Charlemagne Unites </a:t>
              </a:r>
              <a:br>
                <a:rPr sz="4500"/>
              </a:b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Germanic Kingdoms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373040" y="4132440"/>
            <a:ext cx="595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y Germanic kingdoms that succeed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Roman Empire are reunited und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arlemagne’s emp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8402760" y="6443640"/>
            <a:ext cx="512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BAC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>
            <a:hlinkClick r:id="" action="ppaction://hlinkshowjump?jump=endshow"/>
          </p:cNvPr>
          <p:cNvSpPr/>
          <p:nvPr/>
        </p:nvSpPr>
        <p:spPr>
          <a:xfrm>
            <a:off x="8431200" y="111240"/>
            <a:ext cx="361800" cy="36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firstslide"/>
          </p:cNvPr>
          <p:cNvSpPr/>
          <p:nvPr/>
        </p:nvSpPr>
        <p:spPr>
          <a:xfrm>
            <a:off x="304920" y="266760"/>
            <a:ext cx="736560" cy="749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>
            <a:hlinkClick r:id="" action="ppaction://hlinkshowjump?jump=previousslide"/>
          </p:cNvPr>
          <p:cNvSpPr/>
          <p:nvPr/>
        </p:nvSpPr>
        <p:spPr>
          <a:xfrm>
            <a:off x="8408880" y="6045120"/>
            <a:ext cx="438120" cy="43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05160" y="1274760"/>
            <a:ext cx="545796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 Slide S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O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nu, 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 In the pop-up menu, 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soft PowerPoi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dialog box does not include this pop-up, continue to step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 wh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x, choose the presentation format you want to print: slides, notes, handouts, or out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Click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utton to print the PowerPoint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>
            <a:hlinkClick r:id="" action="ppaction://hlinkshowjump?jump=firstslide"/>
          </p:cNvPr>
          <p:cNvSpPr/>
          <p:nvPr/>
        </p:nvSpPr>
        <p:spPr>
          <a:xfrm>
            <a:off x="7459560" y="111240"/>
            <a:ext cx="362160" cy="36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11120" y="1644480"/>
            <a:ext cx="2816280" cy="210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73000" y="1827360"/>
            <a:ext cx="44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Invasions of Western Euro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68720" y="941400"/>
            <a:ext cx="583020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Charlemagne Unites Germanic </a:t>
            </a:r>
            <a:br>
              <a:rPr sz="3000"/>
            </a:b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Kingdom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73360" y="2403360"/>
            <a:ext cx="59148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ffects of Constant Invasions and Warf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rmanic invaders overrun western Roman Empire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00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ghting disrupts trade and government; peop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andon c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ks the beginning of the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Middle Ag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period fr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00 to 1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73360" y="4432320"/>
            <a:ext cx="55814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Decline of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cities are abandoned, level of learning dec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nowledge of Greek language and culture 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most completely l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7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73360" y="5680080"/>
            <a:ext cx="5736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ss of a Common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tion of German language changes Latin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alects develo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74080" y="1598760"/>
            <a:ext cx="44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Germanic Kingdoms Emer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8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773360" y="2174760"/>
            <a:ext cx="5736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ears of Upheaval Between 400 and 6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rmanic kingdoms replace Roman provi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inual wars change borders between kingd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Church provides order and 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73360" y="3422520"/>
            <a:ext cx="57369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Concept of Government 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rmans held together by family ties and loyalty, no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all communities are governed by unwritten rul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tra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rmanic warriors pledge loyalty to their chief; l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lord’s ha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80920" y="1690560"/>
            <a:ext cx="378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Germanic Kingdoms Emer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9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73360" y="2174760"/>
            <a:ext cx="58006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ovis Rules the Fra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rmanic people called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Fran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ld power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man province of Ga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vis, leader of the Franks, converts to Christian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4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ads warriors against other Germanic arm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ites Franks into one kingdom with Church’s hel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y 51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73000" y="1598760"/>
            <a:ext cx="43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Germans Adopt Christian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0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1773360" y="2174760"/>
            <a:ext cx="5607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 the Church Sp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nkish rulers convert Germanic peoples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ristia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ssionaries travel to convert Germanic and Celt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73360" y="3700440"/>
            <a:ext cx="54194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nasteries, Convents, and Manuscri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urch build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monaste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where monks l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study and serve G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alian monk, Benedict, writes rules that gover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astic 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s sister Scholastica adapts rules for nuns liv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on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nks establish schools, preserve learn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 libra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82360" y="1690560"/>
            <a:ext cx="369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Germans Adopt Christian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1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73360" y="2174760"/>
            <a:ext cx="580068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pal Power Expands Under Gregory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590, Gregory I, also called Gregory the Great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omes p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der Gregory, Church become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secul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litical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e’s palace becomes center of Roma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Church money to raise armies, care for poor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gotiate tre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es a Christendom—churchly kingd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anning out from Ro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74440" y="159876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An Empire Evolv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2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773360" y="2174760"/>
            <a:ext cx="5445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urope’s Kingd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ranks control largest and strongest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urope’s many kingd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511, Frankish rule extends over what is n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73360" y="3662280"/>
            <a:ext cx="54194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rles Martel Emer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powerful official in kingdom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mayor of the pala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719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do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harles Martel becom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powerful than 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ats Muslims from Spain at Tours in 732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omes a Christian h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n, Pepin, begin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Carolingian Dynas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amily that ruled 751–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21:09:30Z</dcterms:created>
  <dc:creator>McDougal Littell</dc:creator>
  <dc:description/>
  <dc:language>en-US</dc:language>
  <cp:lastModifiedBy>Amy Kalas</cp:lastModifiedBy>
  <cp:lastPrinted>2003-11-12T20:33:16Z</cp:lastPrinted>
  <dcterms:modified xsi:type="dcterms:W3CDTF">2007-11-30T02:23:16Z</dcterms:modified>
  <cp:revision>827</cp:revision>
  <dc:subject/>
  <dc:title>No Slide Title</dc:title>
</cp:coreProperties>
</file>